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C01-7AFE-46B0-BF6B-2166FF8D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024-8A72-47BC-9A3E-6621C2E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261-75F0-43BC-965C-9113C6C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AD1-E373-4C6D-980B-E5BA6E3C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22C-9ED3-4C2E-9A51-11A6DDE9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B8E-90E4-4079-BE4E-1717A4F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DDE-5D75-4691-8D7D-39BA48C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7F4-730B-4362-B1C2-DED6BD5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BAB-9B0E-4E67-97CA-823FFB1C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500-78F0-4CF6-A1BA-326E7531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8AC-579A-4A25-9DF9-1D76A25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464-54BF-40DB-B1E5-A27C1F8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F89-1A98-46F9-B491-5DA96DA3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 a point! (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 a slope!    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is point slope form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 – 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m(x – x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#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 (3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lope m=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2 = ½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3390840"/>
            <a:ext cx="361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 (-2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lope m = 4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62120" y="32767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3520" y="4267080"/>
                <a:ext cx="2441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3124080"/>
            <a:ext cx="4000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 (-4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lope    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2000" y="20574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8080" y="3657600"/>
                <a:ext cx="3281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724280"/>
                <a:ext cx="4647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467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equation and grap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 (2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slope m =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– 2 = – 3( x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3238560"/>
            <a:ext cx="39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points (1,6) and (-3,-2) write an equation in point slop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, use the first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6 = 2(x –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points (4,-1) and (-4,-3) write an equation in point slope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, use the fir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1 = ¼(x –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0:27:04Z</dcterms:created>
  <dc:creator>Troy Clarke</dc:creator>
  <dc:description/>
  <dc:language>en-US</dc:language>
  <cp:lastModifiedBy>Preferred Customer</cp:lastModifiedBy>
  <dcterms:modified xsi:type="dcterms:W3CDTF">2007-12-12T18:57:37Z</dcterms:modified>
  <cp:revision>6</cp:revision>
  <dc:subject/>
  <dc:title>Point Slope Form</dc:title>
</cp:coreProperties>
</file>